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81BE-C075-4A98-AECC-E309AB1A6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47CA-DEFF-4679-83EC-1B0A38866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DC89-4E1B-434C-99B7-B76F6C27A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A561-2D18-46AE-A29F-B36885A05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75F7-64DE-4C62-8D0D-5A2D20B87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ns grade, crosses expectations, broad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2F6F-F41F-4B65-A356-0FF378F3D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F3E1-423A-43FB-8FD0-2EEC1D4A6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DDEF-9DB6-494C-A9F5-AEED5A1F6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5852-E7E1-4CC7-8F86-4A1CA1221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cut out questions under each of the big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3A5B-BC47-4401-A607-32E7C283C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 discussion; mention that our first question is warm and fuzzy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F616-0E46-4468-AE7E-CE34E451F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open routed vs open-e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C17A-EB1A-43E0-B0F6-B6DFA7DB0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 more than 25 minutes on slides 19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66EE-D744-4B01-90C8-7E92E2D98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BF22-D4D0-40FC-8DF6-3409D088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ACC2-68AC-4BDF-8EC1-8A03357CD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0610-9028-4619-9364-F1DE8B2A7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ello. I’m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 am pleased to introduce this Professional Learning for Mathematics Leaders – not just a three-part series initiative – part of Math GAINS 2009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have seen significant capacity building in 7-12 mathematics over the past few years, and we are beginning to see significant gains for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 Just a 3-part PLMLC series” is designed to model successful approaches, provide practice opportunities, and inspire even greater gains in 2009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C9D4-35C4-4B00-B592-C5B770F58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55DD-ED67-4FB7-8DA8-663D483FA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A7EC-9DFD-405C-A6F9-48B3CA62D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340E-A753-486B-8EC0-0FF3E64F9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8AC2-D674-4A3C-B554-BA90C7C51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BF9F-2A23-4896-AA75-172FA1316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BECB-4CF3-4206-94C6-D142F87A8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7EE0-4B3E-4B85-B3F1-08BB813EB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75BD-7EBE-45B7-BDEB-796A2C914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CKT-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D294-2C8A-4940-A121-F688AF756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n example, e.g. your goal might be that students can use order of operations, but why is that your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168D-4B65-4AE9-B720-DBCD662B4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BFB0-ED8E-4FBD-A6DA-97F96DA37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BDE8-A5DC-489C-9492-E61C8244C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5169-0BD6-488C-9CCF-61731C518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7972-98F2-44CB-8BFF-4F287C01A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E8EE-A35E-4072-960E-1D16D091D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281C-6CAD-4A99-97DC-68BBC69AC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2579-5342-4F7A-9425-50D1DD650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3822-F554-4109-8AAE-F6D9D95C6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 prior t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drop if time is an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3B3E-80B6-4246-893B-35E8E7D71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A77B-8934-44CB-BE4E-D4D7FCCFC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014D-47B4-48A3-B73C-75B774C61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66FA-91F6-4CCE-9CB9-89437626B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D878-035E-4DAE-9D80-B13FC0722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ALSO HAVE QUESTION RE COULD USE 1 POINT, 2 POINTS OR 3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5659-15F2-43E7-8584-71501023A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ALSO HAVE QUESTION RE COULD USE 1 POINT, 2 POINTS OR 3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0482-D784-4A2B-8185-70D63CE98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C66C-9D5C-4AF3-9350-64D0FB149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473D-195C-452C-8A49-FE39CBBC6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99D2-DF89-46C7-9DE8-9A9318CD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2B11-78C4-4FE6-BC6F-F8D6A29E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05B9-EE54-44F1-B9BB-5A9CBBE2B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CC4E-2F28-446D-9B38-3489726AE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E19E-770F-438E-86A0-3E07FBB1D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8699-3F9A-4F57-BCD3-3032CF6BF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5CB-C331-4361-A21E-61A95F16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F3C-CB2D-4160-A552-D58929E1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7D4-B7B8-4585-928A-4A57D4E5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85A-00AB-4F21-A380-E4ED69CC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6E4-EB45-4958-AAD7-A5C779ED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960-8E81-411E-9D7C-58B22CCE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358-A278-4E05-9E00-EB879FDF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1CF-FDD3-448B-AE00-087644BF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EDA-D705-4A3E-96B2-09DEF79D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390-A6A1-4BAA-B30B-A29D8CF5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C85-42A8-460C-AA79-2433B5A6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AD4-79A6-4CA0-B4B6-26D3A7C6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9C2F-43EF-483E-BC18-3B89804CBE7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914400" y="4724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Da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0" y="800280"/>
            <a:ext cx="263700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2303640" y="1125360"/>
            <a:ext cx="671328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8360" y="573408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isa Suurtamm                                                           Trish St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ar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AFF5-D69C-4564-B63D-5D9B280867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12193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ian Small: ….one that connect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EFE8-AF18-4048-9F05-6DD05F4D93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00800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042920" y="12682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 a topic name nor an overall expecta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a statement that describ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5B97-7DA0-4A2E-9BA7-A892F5884CA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16000" y="508464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t provides a lens in which to embed new lear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pattern &amp;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274320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et of big ideas for patterns and algebra are listed in the program booklet you’ve recei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FF2B-CF6C-48F2-9367-44879F993D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11280" y="620640"/>
            <a:ext cx="730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pattern &amp;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34920" y="216864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look at those idea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at our minds-on activity relates to both BI1 and BI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826B-8C64-4E8F-A41F-51682B0ACF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: BI #1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s represent identified regularities.  There is always an element of repetition that must be described for the pattern to be ext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s always repeat and you have to know how they repeat to exten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: BI #2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ideas in other strands of mathematics are simplified by using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often use patterns to learn ideas about number, geometry, measurement, and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lgebra: BI #3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braic reasoning is a process of describing and analyzing generalized mathematical relationships and change using words and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gebraic reasoning is a way to understand mathematical relationships that apply to a large group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 &amp; Algebra: BI #4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epresentations of relationships (e.g. numeric, graphic, geometric, algebraic, verbal, concrete/pictorial) or patterns highlight different characteristics or behaviours and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representations of relationships or patterns show different things about the relationship and each might be more useful in a certain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 &amp; Algebra: BI #5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mathematical relationships or patterns helps us see that there are classes of relationships or patterns and provides insight into each member of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aring mathematical relationships or patterns helps you see that groups of relationships can behave in very similar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5493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Four Royal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1160640"/>
            <a:ext cx="3448080" cy="421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40000" y="1089000"/>
            <a:ext cx="4464000" cy="429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32000" y="981000"/>
            <a:ext cx="5364000" cy="4280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0000" y="1233360"/>
            <a:ext cx="597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 &amp; Algebra: BI #6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information about a mathematical pattern or relationship can sometimes, but not always, allow us to predict other information about that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knowing a few things about a pattern or relationship allows you to predict other things about that pattern or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that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7439-C21C-40FE-A3E5-F65CEA3DE1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59CC-B6E0-4D92-AF2F-E86377F75D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143000" y="2666880"/>
            <a:ext cx="7416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DE12-3AF4-47F9-B88B-C752C18207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87280" y="2708280"/>
            <a:ext cx="741708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notice about the question sty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E78E-F35E-4E73-AC0C-E0D21D1887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31640" y="990720"/>
            <a:ext cx="84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368360" y="195264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o you think it’s important that students know that pattern rules need to be defined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Big Idea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5C9F-17DA-4E23-9CEA-8BF9B8123D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99072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224000" y="1952640"/>
            <a:ext cx="741672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 you think of other instances where number, geometry, measurement or data topics are taught using pattern concepts? (BI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3A89-5499-4277-9BAE-98D7019089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98100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92000" y="2205000"/>
            <a:ext cx="79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3 show the notion of generalization? Analyzing relationships or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1085-51E1-45B6-96CA-F8C801882CD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9810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19280" y="1952640"/>
            <a:ext cx="770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4 broaden a student’s understanding of the value of multiple represent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4D95-43E5-44CB-A3C7-B2076DCE8AF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87280" y="99072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16000" y="227664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5 help broaden students’ ideas of what kinds of relationships there 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4B3F-CF12-40AB-9409-C008AEC7CF4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61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ofessional Learning for Mathematics Leaders and Coach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673000" y="44193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just a 3-part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GAINS_Globe_70smws"/>
          <p:cNvPicPr/>
          <p:nvPr/>
        </p:nvPicPr>
        <p:blipFill>
          <a:blip r:embed="rId1"/>
          <a:stretch/>
        </p:blipFill>
        <p:spPr>
          <a:xfrm>
            <a:off x="0" y="800280"/>
            <a:ext cx="26370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27280" y="537372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nistry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6000" y="99072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143000" y="26668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o you think Big Idea 6 is a valuable one for student foc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D4D4-4D7B-483D-A867-F825CE73670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1828800"/>
            <a:ext cx="741708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0A57-5CB3-4A7C-BA15-64445512BD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ing big ideas with stu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43000" y="251460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s it easier for them to make connections to prior knowledge and to move forward in new direc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2A4E-596E-4C42-9036-24286E53E5C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thinking about the big ideas, it becomes easier to 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develop appropriate less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goal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appropriate consolidating question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o bring them ou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DF61-E23F-4AB1-8E3D-6C8C2F7757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824360" y="1844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"/>
          <p:cNvSpPr/>
          <p:nvPr/>
        </p:nvSpPr>
        <p:spPr>
          <a:xfrm>
            <a:off x="611280" y="58428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119700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6775-0E58-4CF2-877A-AD52ABF02B1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1871640" y="3645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792000" y="4292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5940360" y="5589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own Arrow 11"/>
          <p:cNvSpPr/>
          <p:nvPr/>
        </p:nvSpPr>
        <p:spPr>
          <a:xfrm>
            <a:off x="6408720" y="497664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own Arrow 15"/>
          <p:cNvSpPr/>
          <p:nvPr/>
        </p:nvSpPr>
        <p:spPr>
          <a:xfrm rot="16200000">
            <a:off x="4136760" y="3431880"/>
            <a:ext cx="380880" cy="16002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5977080" y="32846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own Arrow 15"/>
          <p:cNvSpPr/>
          <p:nvPr/>
        </p:nvSpPr>
        <p:spPr>
          <a:xfrm rot="5400000">
            <a:off x="4496760" y="5051160"/>
            <a:ext cx="380880" cy="16002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08000" y="55897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onsolidating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381560" y="728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-1189080" y="297000"/>
            <a:ext cx="83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Exampl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4788000" y="4724280"/>
            <a:ext cx="36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99"/>
                </a:solidFill>
                <a:latin typeface="Arial"/>
              </a:rPr>
              <a:t>Students will recognize when a graphical model is more useful and when an algebraic on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250920" y="13413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ic: Linea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287280" y="1881360"/>
            <a:ext cx="42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ation:  Determine other representations of a linear relation, given one 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own Arrow 11"/>
          <p:cNvSpPr/>
          <p:nvPr/>
        </p:nvSpPr>
        <p:spPr>
          <a:xfrm>
            <a:off x="5904000" y="3933720"/>
            <a:ext cx="304560" cy="60984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own Arrow 15"/>
          <p:cNvSpPr/>
          <p:nvPr/>
        </p:nvSpPr>
        <p:spPr>
          <a:xfrm rot="16200000">
            <a:off x="3795840" y="2692440"/>
            <a:ext cx="380880" cy="844560"/>
          </a:xfrm>
          <a:prstGeom prst="downArrow">
            <a:avLst>
              <a:gd name="adj1" fmla="val 50000"/>
              <a:gd name="adj2" fmla="val 26393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4464000" y="137628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 4:  Different representations of relationships or patterns show different things about them and which is more useful depends on the sit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n Arrow 15"/>
          <p:cNvSpPr/>
          <p:nvPr/>
        </p:nvSpPr>
        <p:spPr>
          <a:xfrm rot="5400000">
            <a:off x="4272840" y="5203080"/>
            <a:ext cx="380880" cy="792000"/>
          </a:xfrm>
          <a:prstGeom prst="downArrow">
            <a:avLst>
              <a:gd name="adj1" fmla="val 50000"/>
              <a:gd name="adj2" fmla="val 24751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257720"/>
            <a:ext cx="44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ou have a graph of a linear relation with x-values from -10 to +10 plotted. You want to know the values of y for specific values of x.  For which values of x would you use the graphical form? the algebraic for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4364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Lesson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7280" y="386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Consolidating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Relationships Among Big Ideas, Curriculum Expectations and Lesson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2744640"/>
            <a:ext cx="67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iculum Expect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ve first degree equations with non-fraction coefficients using a variety of tools (eg. 2x + 7 = 6x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3640" y="4149720"/>
            <a:ext cx="756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ask 1:  You are given 3 lesson goals, 3 Big Ideas, and 3 consolidating ques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termine which lesson goal connects to which Big Idea for this expectation and identify the appropriate consolidation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 #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epresent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recognize that solving an equation means determining an equivalent equation where the solution is more ob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equations are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 – 7 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 + 7 = x +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sure easier to see the unknown value in one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presen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determining an equivalent equation where the solution is more ob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ion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or disagre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 – 4 = 17 + 3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ally the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0.5 in disgui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easier to sol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ight someone say that solving an equation is about finding what easier question is being disgu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a few thin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that you know some information (an output and a rule), so you should be able to figure out the other information (the 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95228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a few thin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that you know some information (an output and a rule), so you should be able to figure out the other information (the 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ion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ONE of these two things: x = 2y = 20 OR 3x + 2 = 2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 lets you figure out what x is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reasoning is a way 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using the change rule embedded in the equation symbolically to describe one specific example of the effect of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reasoning is a way 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using the change rule embedded in the equation symbolically to describe one specific example of the effect of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ion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suggests that you triple a number and subtract if from 2. What equation would you solve to figure out the input if you know the output is 5?  How would you sol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lationship among Expectations, Big Ideas,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990720" y="30481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ing at the Posing Powerful Questions Template (PPQT) as a t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446F-DCF5-4C75-A24B-1951F20172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Posing Powerfu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066680" y="18288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36C1-5785-4EC4-93F3-0D9338C797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Picture 3.png"/>
          <p:cNvPicPr/>
          <p:nvPr/>
        </p:nvPicPr>
        <p:blipFill>
          <a:blip r:embed="rId1"/>
          <a:stretch/>
        </p:blipFill>
        <p:spPr>
          <a:xfrm>
            <a:off x="0" y="1979640"/>
            <a:ext cx="8991720" cy="28512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76320" y="2286000"/>
            <a:ext cx="87627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4221000"/>
            <a:ext cx="8763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881360"/>
            <a:ext cx="882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(s) for a Specific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997360"/>
            <a:ext cx="89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924280"/>
            <a:ext cx="889308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iculum Expec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first degree equations with non-fraction coefficients using a variety of tools (eg. 2x + 7 = 6x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797360"/>
            <a:ext cx="87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(s) Addressed by th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852640"/>
            <a:ext cx="8964720" cy="190836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19320" y="214956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C8E5-8A8F-4239-96AE-97155FB504A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1193760" y="26067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includes knowing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you have that goal. --- What’s the point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A182-2468-4C6A-88DB-62C489DAFE4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C4D8-DDE4-4406-90A7-DF9DFCD587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079640" y="20239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C49C-22B4-4A1A-9F14-50C12CE0F85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5F90-D7F6-41F0-AF24-5B2B9AEB04D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6364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863640" y="119700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ar growing pattern starts at -10 and grows very slowly. What might the pattern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9558-BF3A-4BFF-A5B1-2EB4F0427B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34920" y="407664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ow could you convince someone the pattern grows slow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066680" y="2895480"/>
            <a:ext cx="741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d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8A56-D263-4D8D-A470-79B01FBC0E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Picture 1.png"/>
          <p:cNvPicPr/>
          <p:nvPr/>
        </p:nvPicPr>
        <p:blipFill>
          <a:blip r:embed="rId1"/>
          <a:stretch/>
        </p:blipFill>
        <p:spPr>
          <a:xfrm>
            <a:off x="1447920" y="4114800"/>
            <a:ext cx="7048440" cy="144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6412-4159-4487-948F-6AEBEFF87E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762C-1571-48E6-8566-A399521B16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Picture 3.pn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88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3352680" y="3657600"/>
            <a:ext cx="5639040" cy="30492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74AF-9566-40BD-B923-BBE0F94D39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Picture 4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6781680" y="2514600"/>
            <a:ext cx="2362320" cy="38088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828800" y="2895480"/>
            <a:ext cx="1981080" cy="22860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5410080" y="3429000"/>
            <a:ext cx="312444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905120" y="39625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6934320" y="37339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85D5-D5B4-4080-B30D-BF4B07BC16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Picture 5.pn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2A35-32DE-4662-A205-2EE51F3B30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31640" y="404640"/>
            <a:ext cx="67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f this is the goal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4B5F-83CF-4097-B2A6-85EC12BF348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6000" y="1376280"/>
            <a:ext cx="8928000" cy="105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(s) for a Specific Le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will recognize when it’s useful to use generalization when describing a pat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5373720"/>
            <a:ext cx="8964720" cy="105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Idea(s) Addressed by the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ebraic reasoning is a way to understand mathematical relationships that apply to a large group of sit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2673360"/>
            <a:ext cx="8964720" cy="244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iculum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 linear growing patterns, using a variety of tools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predictions about linear growing patterns, through investigation, with concrete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pattern rules that generate a pattern by adding or subtracting a constant or multiply or dividing by a constant to get the next term with pattern rules that use the term number to describe the general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00" y="1305000"/>
            <a:ext cx="8928000" cy="1152360"/>
          </a:xfrm>
          <a:prstGeom prst="rect">
            <a:avLst/>
          </a:prstGeom>
          <a:solidFill>
            <a:srgbClr val="ffff99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5337000"/>
            <a:ext cx="9144000" cy="107964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673360"/>
            <a:ext cx="9144000" cy="2448000"/>
          </a:xfrm>
          <a:prstGeom prst="rect">
            <a:avLst/>
          </a:prstGeom>
          <a:solidFill>
            <a:srgbClr val="ffff99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DB0-CE1F-48C0-BD43-7999F5FAC31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58920" y="728640"/>
            <a:ext cx="84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 the ‘Minds On’ need to be adjusted?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34AD-4913-4528-8F33-9B9B4B7727C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Picture 3.pn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88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"/>
          <p:cNvSpPr/>
          <p:nvPr/>
        </p:nvSpPr>
        <p:spPr>
          <a:xfrm>
            <a:off x="3352680" y="3657600"/>
            <a:ext cx="5639040" cy="30492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8920" y="728640"/>
            <a:ext cx="84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 the ‘Action’ need to be adjusted?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867D-3D6B-49EC-92E9-855083BE64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Picture 4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6781680" y="2514600"/>
            <a:ext cx="2362320" cy="38088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828800" y="2895480"/>
            <a:ext cx="1981080" cy="22860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410080" y="3429000"/>
            <a:ext cx="312444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905120" y="39625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934320" y="37339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8920" y="728640"/>
            <a:ext cx="84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 the ‘Consolidation’ need to be adjusted?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66680" y="289548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AC86-0F5F-44DC-BE5E-988A5BC043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63640" y="476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Picture 1.pn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1626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16000" y="4575240"/>
            <a:ext cx="8424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e/Debrief Sample Ques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this stat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ay someone figures out terms 3, 4, 5 and 6 might be very different from the way that person figures out term 100 becaus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6000" y="4400640"/>
            <a:ext cx="8748720" cy="2457360"/>
          </a:xfrm>
          <a:prstGeom prst="rect">
            <a:avLst/>
          </a:prstGeom>
          <a:solidFill>
            <a:srgbClr val="ffff99">
              <a:alpha val="3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19280" y="198900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llowing stated goals were taken from a series of lessons on linear relations in a grade 9 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E652-1EEF-443C-8F09-B69DCF23CD6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3"/>
          <p:cNvSpPr/>
          <p:nvPr/>
        </p:nvSpPr>
        <p:spPr>
          <a:xfrm>
            <a:off x="1066680" y="990720"/>
            <a:ext cx="74170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relation using a table of values, a graph or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irect and partial var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properties of linear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7BE4-6A38-48F8-A448-0D7F61C7801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1066680" y="9907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linear relation in a differen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gnize whether a relation is linear or non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2948-4133-4AF6-AF26-9C0254CB9C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250920" y="18900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ask: Using the Posing Question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58920" y="1665360"/>
            <a:ext cx="84978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 a partner, choose 1 of these goa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cus them to relate more explicitly to one or more of the big ide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rite a possible consolidating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E071-03E8-4B4F-9706-01DAAF5B386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79280" y="836640"/>
            <a:ext cx="83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Identify properties of linear 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592280"/>
            <a:ext cx="8964720" cy="138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(s) for a Specific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will recognize why any two points on a line can be used to determine the slope and how that can be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141720"/>
            <a:ext cx="8928000" cy="174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iculum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, through investigation, various formulas for the slope of a line segment or a line and use the formulas to determine the slope of a line segment or a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110200"/>
            <a:ext cx="8893080" cy="174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(s) Addressed by th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information about a mathematical relationship can sometimes allow us to predict other information about that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216000" y="800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ossible Consolidation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7" descr="Picture 1.pn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2622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16000" y="4329000"/>
            <a:ext cx="8712000" cy="1747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e/Debrief Sample Ques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pictures, numbers, words, or graphs and explain why it doesn’t matter if x-values are 1 apart or 2 apart or even 20 apart to calculate a sl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16000" y="800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ossible Consolidation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Picture 1.pn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26226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16000" y="4329000"/>
            <a:ext cx="8712000" cy="1937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e/Debrief Sample Ques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a situation that a linear relation would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how to change one thing about it so that a linear relation doesn’t work any more as a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9280" y="1233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oup A &amp; B 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(Liisa &amp; Linda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547640" y="38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oup C &amp; 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(Trish &amp; Chr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066680" y="182880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a lesson in the resource you brou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a partner to restate the goal to focus more on a big id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8BDD-92F0-4A8F-9A0B-B2374D8538D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6364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863640" y="1197000"/>
            <a:ext cx="7416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near growing pattern starts at -10 and grows very slowly. What might the pattern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5C26-5484-4E7A-AD4E-21FF6968C0B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971640" y="30337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at do you think the important underlying math idea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066680" y="182880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consolidating questions to match your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117E-5F93-4773-8249-9A3317DCF0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066680" y="243828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e PPQT  to record all of your think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0A3E-3BDC-4BEB-A7D6-CCF22392C1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66680" y="236232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k over to someone you’ve not talked to bef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86C7-B93D-47A3-A57C-128F3D4A66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066680" y="23623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one idea that came up that reinforces what you already do when creating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3267-4451-40AC-99FD-09BFACBF17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143000" y="1905120"/>
            <a:ext cx="7416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er one idea that came up that might change how you creat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D788-78D2-450E-B9E1-A9F70BA03F1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86364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63640" y="1197000"/>
            <a:ext cx="7416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near growing pattern starts at -10 and grows very slowly. What might the pattern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B1C5-DA8E-4A5D-9AEE-2A7AA39650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47640" y="324972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What do you think the important underlying math idea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0560" y="4797360"/>
            <a:ext cx="829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066680" y="175248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akes sense that there are a lot of linear patterns that start with the same term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ext matters in deciding how fast a pattern grows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7B30-4512-43B4-976C-6909DCBE0D2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2:28:27Z</dcterms:created>
  <dc:creator>PSteele</dc:creator>
  <dc:description/>
  <dc:language>en-US</dc:language>
  <cp:lastModifiedBy>PSteele</cp:lastModifiedBy>
  <dcterms:modified xsi:type="dcterms:W3CDTF">2009-10-11T18:58:08Z</dcterms:modified>
  <cp:revision>293</cp:revision>
  <dc:subject/>
  <dc:title>Slide 1</dc:title>
</cp:coreProperties>
</file>